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6E9-94D7-4B5E-8D7A-BE50E801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E7F-525F-41F5-9F7C-6A11C630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7E6-0EB9-4D09-8C6D-BFC813B6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B07-FBDF-4DB4-8177-0B60F139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673-DD48-44C6-8AF2-2413788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0B9-A015-45DA-8F5F-C07CB35C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601-FDB8-4F74-9ADC-9E43DB3C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21-19B4-4107-8B6F-1F8B122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F01-40CC-41BC-899C-14567E1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9B5-AF31-4C8F-A009-A3BA088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DB0-D7E3-492C-8B83-5CCDC7D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823-C258-4675-8C1B-05D295D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D8D-69FA-4C39-B331-747D2724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Впровадження ринку двосторонніх контрактів з балансуючим ринком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.Дунай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 Національної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ісії Регулювання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лектроенергетики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74E-CA4B-451A-9334-49BD6FE66D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171360"/>
            <a:ext cx="8218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ередумови переходу до Етап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твердження положення стосовно “гарантованих” постачальникі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асування (або суттєве зменшення) обсягів субсид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згодження системи визначення умовного графіку навантаження споживачі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з приладів погодинного обліку (побутові споживач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A2B-2396-4275-A5E7-76EBFC9590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71360"/>
            <a:ext cx="8218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Етап 4 –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Кінцева модель ри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таннім кроком переходу до майбутнього ОРЕ стане відмова від усіх перехідних заходів, які ще діятимуть на той мо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ночасно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криття ринку досягне свого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таннього ета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 результат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країнський ОРЕ стане подібним до ринків електричної енергії більшості європейських країн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х як Франція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імеччина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умунія чи Великобританія, країни Скандинавії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Nord Pool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1CF-97F1-4592-9858-C6B8CE92AE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760" y="2397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Кінцевий ри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5440" y="1263600"/>
            <a:ext cx="8602560" cy="4546800"/>
          </a:xfrm>
          <a:prstGeom prst="bevel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290600"/>
            <a:ext cx="0" cy="451188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27440" y="1301760"/>
            <a:ext cx="0" cy="45115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0240" y="1301760"/>
            <a:ext cx="0" cy="45115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6600" y="1062000"/>
            <a:ext cx="8605800" cy="220680"/>
          </a:xfrm>
          <a:prstGeom prst="bevel">
            <a:avLst>
              <a:gd name="adj" fmla="val 85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67320" y="1333440"/>
            <a:ext cx="156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На добу напе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8200" y="13334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Того ж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4400" y="13352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Розрах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8080" y="1984320"/>
            <a:ext cx="1320840" cy="1344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G Omega"/>
              </a:rPr>
              <a:t>Енергетич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G Omega"/>
              </a:rPr>
              <a:t>бі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03640" y="2262600"/>
            <a:ext cx="846000" cy="91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Пропози-ції е/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4360" y="1925640"/>
            <a:ext cx="1596960" cy="961920"/>
            <a:chOff x="414360" y="1925640"/>
            <a:chExt cx="1596960" cy="961920"/>
          </a:xfrm>
        </p:grpSpPr>
        <p:sp>
          <p:nvSpPr>
            <p:cNvPr id="105" name=""/>
            <p:cNvSpPr/>
            <p:nvPr/>
          </p:nvSpPr>
          <p:spPr>
            <a:xfrm>
              <a:off x="414360" y="1925640"/>
              <a:ext cx="1596960" cy="961920"/>
            </a:xfrm>
            <a:prstGeom prst="rect">
              <a:avLst/>
            </a:prstGeom>
            <a:solidFill>
              <a:srgbClr val="ffe28f"/>
            </a:solidFill>
            <a:ln w="0">
              <a:noFill/>
            </a:ln>
            <a:effectLst>
              <a:outerShdw dist="17819" dir="2700000" blurRad="0" rotWithShape="0">
                <a:srgbClr val="9887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400" y="2172960"/>
              <a:ext cx="592200" cy="4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808080"/>
                  </a:solidFill>
                  <a:latin typeface="CG Omeg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4360" y="2172960"/>
              <a:ext cx="592200" cy="4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808080"/>
                  </a:solidFill>
                  <a:latin typeface="CG Omeg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1760" y="4282920"/>
            <a:ext cx="1623960" cy="973440"/>
            <a:chOff x="401760" y="4282920"/>
            <a:chExt cx="1623960" cy="973440"/>
          </a:xfrm>
        </p:grpSpPr>
        <p:sp>
          <p:nvSpPr>
            <p:cNvPr id="109" name=""/>
            <p:cNvSpPr/>
            <p:nvPr/>
          </p:nvSpPr>
          <p:spPr>
            <a:xfrm>
              <a:off x="401760" y="4282920"/>
              <a:ext cx="1623960" cy="973440"/>
            </a:xfrm>
            <a:prstGeom prst="rect">
              <a:avLst/>
            </a:prstGeom>
            <a:solidFill>
              <a:srgbClr val="ffe28f"/>
            </a:solidFill>
            <a:ln w="0">
              <a:noFill/>
            </a:ln>
            <a:effectLst>
              <a:outerShdw dist="17819" dir="2700000" blurRad="0" rotWithShape="0">
                <a:srgbClr val="9887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160" y="4558320"/>
              <a:ext cx="600840" cy="471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808080"/>
                  </a:solidFill>
                  <a:latin typeface="CG Omega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09320" y="4557240"/>
              <a:ext cx="600840" cy="471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808080"/>
                  </a:solidFill>
                  <a:latin typeface="CG Omega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569360" y="1748880"/>
            <a:ext cx="107784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бчислені обся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5400000">
            <a:off x="7886880" y="1932480"/>
            <a:ext cx="487080" cy="1103400"/>
          </a:xfrm>
          <a:prstGeom prst="rightArrow">
            <a:avLst>
              <a:gd name="adj1" fmla="val 73750"/>
              <a:gd name="adj2" fmla="val 2508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0000"/>
                </a:solidFill>
                <a:latin typeface="Arial"/>
              </a:rPr>
              <a:t>Дані</a:t>
            </a: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1000" spc="-1" strike="noStrike">
                <a:solidFill>
                  <a:srgbClr val="ff0000"/>
                </a:solidFill>
                <a:latin typeface="Arial"/>
              </a:rPr>
              <a:t>лічильн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2520" y="207072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26120" y="3146760"/>
            <a:ext cx="1204920" cy="991440"/>
            <a:chOff x="5226120" y="3146760"/>
            <a:chExt cx="1204920" cy="991440"/>
          </a:xfrm>
        </p:grpSpPr>
        <p:sp>
          <p:nvSpPr>
            <p:cNvPr id="116" name=""/>
            <p:cNvSpPr/>
            <p:nvPr/>
          </p:nvSpPr>
          <p:spPr>
            <a:xfrm>
              <a:off x="5226120" y="3196440"/>
              <a:ext cx="1204920" cy="94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Система складання графікі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40160" y="3146760"/>
              <a:ext cx="26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О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380360" y="2779560"/>
            <a:ext cx="1434960" cy="2533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G Omega"/>
              </a:rPr>
              <a:t>Адміністратор з розрахункі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70000" y="301212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69960" y="2703600"/>
            <a:ext cx="1069920" cy="1748520"/>
            <a:chOff x="669960" y="2703600"/>
            <a:chExt cx="1069920" cy="1748520"/>
          </a:xfrm>
        </p:grpSpPr>
        <p:sp>
          <p:nvSpPr>
            <p:cNvPr id="121" name=""/>
            <p:cNvSpPr/>
            <p:nvPr/>
          </p:nvSpPr>
          <p:spPr>
            <a:xfrm>
              <a:off x="669960" y="2703600"/>
              <a:ext cx="0" cy="174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5480" y="2703600"/>
              <a:ext cx="758880" cy="174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1760" y="2703600"/>
              <a:ext cx="828720" cy="174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9880" y="2703600"/>
              <a:ext cx="0" cy="174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00200" y="3360600"/>
            <a:ext cx="98892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восто-ронні догов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89400" y="4528440"/>
            <a:ext cx="1204920" cy="1027440"/>
            <a:chOff x="5189400" y="4528440"/>
            <a:chExt cx="1204920" cy="1027440"/>
          </a:xfrm>
        </p:grpSpPr>
        <p:sp>
          <p:nvSpPr>
            <p:cNvPr id="127" name=""/>
            <p:cNvSpPr/>
            <p:nvPr/>
          </p:nvSpPr>
          <p:spPr>
            <a:xfrm>
              <a:off x="5189400" y="4572000"/>
              <a:ext cx="1204920" cy="9838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000000"/>
                  </a:solidFill>
                  <a:latin typeface="Arial"/>
                </a:rPr>
                <a:t>Балансуючий</a:t>
              </a: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 механі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3440" y="4528440"/>
              <a:ext cx="26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О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303640" y="3662280"/>
            <a:ext cx="2908080" cy="547920"/>
          </a:xfrm>
          <a:prstGeom prst="rightArrow">
            <a:avLst>
              <a:gd name="adj1" fmla="val 66380"/>
              <a:gd name="adj2" fmla="val 6735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Графі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79520" y="4734000"/>
            <a:ext cx="2908440" cy="547560"/>
          </a:xfrm>
          <a:prstGeom prst="rightArrow">
            <a:avLst>
              <a:gd name="adj1" fmla="val 66380"/>
              <a:gd name="adj2" fmla="val 6740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Заявки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пропозиції від енергобл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0600" y="2425680"/>
            <a:ext cx="2806920" cy="547560"/>
          </a:xfrm>
          <a:prstGeom prst="rightArrow">
            <a:avLst>
              <a:gd name="adj1" fmla="val 66380"/>
              <a:gd name="adj2" fmla="val 6505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перації за фіксованою цін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46600" y="4138560"/>
            <a:ext cx="285840" cy="387360"/>
          </a:xfrm>
          <a:prstGeom prst="upDownArrow">
            <a:avLst>
              <a:gd name="adj1" fmla="val 50000"/>
              <a:gd name="adj2" fmla="val 26978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27800" y="3421080"/>
            <a:ext cx="965160" cy="547560"/>
          </a:xfrm>
          <a:prstGeom prst="rightArrow">
            <a:avLst>
              <a:gd name="adj1" fmla="val 66380"/>
              <a:gd name="adj2" fmla="val 2236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Кінцеві графі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27800" y="4687920"/>
            <a:ext cx="965160" cy="547560"/>
          </a:xfrm>
          <a:prstGeom prst="rightArrow">
            <a:avLst>
              <a:gd name="adj1" fmla="val 66380"/>
              <a:gd name="adj2" fmla="val 2236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пер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29F-72CA-49AE-9F80-85D63012D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9720" y="950760"/>
            <a:ext cx="256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ряд Украї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28640"/>
            <a:ext cx="8785440" cy="44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Міжвідомча комісія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Група управління з впровадження рин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2365200"/>
            <a:ext cx="734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рекція з впровадження р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38760" y="4089240"/>
            <a:ext cx="2504880" cy="19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рганізац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юридична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ення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а перехідних пит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кономічна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нансі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хнічні кодекс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алансуючий механі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2852640"/>
            <a:ext cx="648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ординаційні робочі гру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4076640"/>
            <a:ext cx="2521080" cy="19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порядник розрахун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нергобі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зки з громадкістю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готовка учас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ча 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3639960"/>
            <a:ext cx="489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Г з впровадження р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413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060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3340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3614760"/>
            <a:ext cx="367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партаменти з впрова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760" y="4000680"/>
            <a:ext cx="3591000" cy="218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алансуючий ри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нергобі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порядник розрахун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КРЕ та МП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кожному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провадження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оніторинг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ДД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часники ри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3340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060640"/>
            <a:ext cx="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8800" y="164880"/>
            <a:ext cx="85392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Структури впровад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AC8-2250-4FD2-90E2-6034212088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Існуюча система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аловий п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5440" y="1481040"/>
            <a:ext cx="8602560" cy="3746520"/>
          </a:xfrm>
          <a:prstGeom prst="bevel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45040" y="2509920"/>
            <a:ext cx="1363680" cy="1197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Балансування в реальному ча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70320" y="1512720"/>
            <a:ext cx="0" cy="371808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27440" y="1512720"/>
            <a:ext cx="0" cy="371808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0240" y="1512720"/>
            <a:ext cx="0" cy="371808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84280"/>
            <a:ext cx="8605800" cy="220680"/>
          </a:xfrm>
          <a:prstGeom prst="bevel">
            <a:avLst>
              <a:gd name="adj" fmla="val 85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68400" y="1844640"/>
            <a:ext cx="156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На добу напе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4440" y="184464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Того ж 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54440" y="18446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G Omega"/>
              </a:rPr>
              <a:t>Розрах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2435400"/>
            <a:ext cx="1434960" cy="1344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G Omega"/>
              </a:rPr>
              <a:t>П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85640" y="2079720"/>
            <a:ext cx="2422440" cy="2055240"/>
            <a:chOff x="485640" y="2079720"/>
            <a:chExt cx="2422440" cy="2055240"/>
          </a:xfrm>
        </p:grpSpPr>
        <p:grpSp>
          <p:nvGrpSpPr>
            <p:cNvPr id="55" name=""/>
            <p:cNvGrpSpPr/>
            <p:nvPr/>
          </p:nvGrpSpPr>
          <p:grpSpPr>
            <a:xfrm>
              <a:off x="485640" y="2079720"/>
              <a:ext cx="2422440" cy="961560"/>
              <a:chOff x="485640" y="2079720"/>
              <a:chExt cx="2422440" cy="961560"/>
            </a:xfrm>
          </p:grpSpPr>
          <p:sp>
            <p:nvSpPr>
              <p:cNvPr id="56" name=""/>
              <p:cNvSpPr/>
              <p:nvPr/>
            </p:nvSpPr>
            <p:spPr>
              <a:xfrm>
                <a:off x="2062080" y="2163960"/>
                <a:ext cx="846000" cy="796680"/>
              </a:xfrm>
              <a:prstGeom prst="rightArrow">
                <a:avLst>
                  <a:gd name="adj1" fmla="val 50000"/>
                  <a:gd name="adj2" fmla="val 26548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000" spc="-1" strike="noStrike">
                    <a:solidFill>
                      <a:srgbClr val="ff0000"/>
                    </a:solidFill>
                    <a:latin typeface="Arial"/>
                  </a:rPr>
                  <a:t>Комплексні пропозиці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485640" y="2079720"/>
                <a:ext cx="1596960" cy="961560"/>
                <a:chOff x="485640" y="2079720"/>
                <a:chExt cx="1596960" cy="9615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85640" y="2079720"/>
                  <a:ext cx="1596960" cy="961560"/>
                </a:xfrm>
                <a:prstGeom prst="rect">
                  <a:avLst/>
                </a:prstGeom>
                <a:solidFill>
                  <a:srgbClr val="ffe28f"/>
                </a:solidFill>
                <a:ln w="0">
                  <a:noFill/>
                </a:ln>
                <a:effectLst>
                  <a:outerShdw dist="17819" dir="2700000" blurRad="0" rotWithShape="0">
                    <a:srgbClr val="988755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53680" y="2326680"/>
                  <a:ext cx="592200" cy="466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  <a:effectLst>
                  <a:outerShdw dist="17819" dir="2700000" blurRad="0" rotWithShape="0">
                    <a:srgbClr val="9898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800" spc="-1" strike="noStrike">
                      <a:solidFill>
                        <a:srgbClr val="808080"/>
                      </a:solidFill>
                      <a:latin typeface="CG Omega"/>
                    </a:rPr>
                    <a:t>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85640" y="2326680"/>
                  <a:ext cx="592200" cy="466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  <a:effectLst>
                  <a:outerShdw dist="17819" dir="2700000" blurRad="0" rotWithShape="0">
                    <a:srgbClr val="9898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800" spc="-1" strike="noStrike">
                      <a:solidFill>
                        <a:srgbClr val="808080"/>
                      </a:solidFill>
                      <a:latin typeface="CG Omega"/>
                    </a:rPr>
                    <a:t>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488880" y="3162240"/>
              <a:ext cx="2415960" cy="972720"/>
              <a:chOff x="488880" y="3162240"/>
              <a:chExt cx="2415960" cy="9727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488880" y="3162240"/>
                <a:ext cx="1623960" cy="972720"/>
                <a:chOff x="488880" y="3162240"/>
                <a:chExt cx="1623960" cy="972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88880" y="3162240"/>
                  <a:ext cx="1623960" cy="972720"/>
                </a:xfrm>
                <a:prstGeom prst="rect">
                  <a:avLst/>
                </a:prstGeom>
                <a:solidFill>
                  <a:srgbClr val="ffe28f"/>
                </a:solidFill>
                <a:ln w="0">
                  <a:noFill/>
                </a:ln>
                <a:effectLst>
                  <a:outerShdw dist="17819" dir="2700000" blurRad="0" rotWithShape="0">
                    <a:srgbClr val="988755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20280" y="3437280"/>
                  <a:ext cx="600840" cy="470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  <a:effectLst>
                  <a:outerShdw dist="17819" dir="2700000" blurRad="0" rotWithShape="0">
                    <a:srgbClr val="9898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800" spc="-1" strike="noStrike">
                      <a:solidFill>
                        <a:srgbClr val="808080"/>
                      </a:solidFill>
                      <a:latin typeface="CG Omega"/>
                    </a:rPr>
                    <a:t>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396440" y="3436200"/>
                  <a:ext cx="600840" cy="470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  <a:effectLst>
                  <a:outerShdw dist="17819" dir="2700000" blurRad="0" rotWithShape="0">
                    <a:srgbClr val="9898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800" spc="-1" strike="noStrike">
                      <a:solidFill>
                        <a:srgbClr val="808080"/>
                      </a:solidFill>
                      <a:latin typeface="CG Omega"/>
                    </a:rPr>
                    <a:t>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130120" y="3288960"/>
                <a:ext cx="774720" cy="718560"/>
              </a:xfrm>
              <a:prstGeom prst="rightArrow">
                <a:avLst>
                  <a:gd name="adj1" fmla="val 50000"/>
                  <a:gd name="adj2" fmla="val 26954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ff0000"/>
                    </a:solidFill>
                    <a:latin typeface="Arial"/>
                  </a:rPr>
                  <a:t>Спожи-ванн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4122720" y="2611440"/>
            <a:ext cx="942840" cy="993600"/>
          </a:xfrm>
          <a:prstGeom prst="rightArrow">
            <a:avLst>
              <a:gd name="adj1" fmla="val 70611"/>
              <a:gd name="adj2" fmla="val 2491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раф</a:t>
            </a: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ік вироб-ниц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8200" y="4493520"/>
            <a:ext cx="107784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Обчислені обся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854840" y="3664080"/>
            <a:ext cx="487440" cy="861840"/>
          </a:xfrm>
          <a:prstGeom prst="rightArrow">
            <a:avLst>
              <a:gd name="adj1" fmla="val 73750"/>
              <a:gd name="adj2" fmla="val 2508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Данні лічиль-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02760" y="246420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57280" y="251208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2435400"/>
            <a:ext cx="1434960" cy="1344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G Omega"/>
              </a:rPr>
              <a:t>П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0240" y="2611440"/>
            <a:ext cx="874800" cy="993600"/>
          </a:xfrm>
          <a:prstGeom prst="rightArrow">
            <a:avLst>
              <a:gd name="adj1" fmla="val 70611"/>
              <a:gd name="adj2" fmla="val 2491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Arial"/>
              </a:rPr>
              <a:t>Кінцевий графік вироб-ниц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70000" y="247392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940-7FDD-4719-9A46-1A87DB1929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ідхід до етапів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чаток переходу на нову модель ринку заплановано н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009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хідні етапи повинні забезпечуват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буття знань у новому р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даптацію правил на основі набутого досві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никнення потрясі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думовою наступного етапу є ефективне функціонування попередніх ета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717-571C-45E4-AB3C-5E9B9E9F8B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ередумови переходу до Етап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 нової моделі ри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достатньої нормативно-законодавчої бази для створення ринку двосторонніх договорів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балансуючого р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узгодження розміру відкриття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визначення квот для виробн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визначення критеріїв кваліфікова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розробка методики розподілу прибутків між типами гене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отовка необхідного програмного забезпечення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а реєстрації учасників ринку двосторонніх договор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система обробки даних двосторонніх договорів та прогнозного споживання кваліфікованих споживачів на наступну д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система збору даних комерційного облі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1AD-B754-4984-88EA-D184905E31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Етап 1 –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чаткове навч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пускається в обмежених обсягах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остороння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обникам дозволено продавати певну част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во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оєї продукції за двосторонніми догов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вомочні “кваліфіковані” споживачі мають право купувати їхню продукцію за двосторонніми догов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остороння торгівля може доповнюватися річними аукціонами з метою полегшення укладання догов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овження централізованого складання графікі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обники продають залишкову потужність в пулі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“на добу наперед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01F-B56D-4099-946C-06452E6352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387360"/>
            <a:ext cx="8218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ередумови переходу до Етап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816200"/>
            <a:ext cx="850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77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архітектури, впровадження і успішне випробування системи балансуючого рин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збору даних комерційного обліку та розрахунків за всіма торговельними операці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ановлення правил та системи реєстрації сторін, відповідальних за баланс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системи удосконаленого прогнозування споживання і розрахунків своїх заявок та пропозиці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7207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945-8214-4CE0-8214-6EB1F3C05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87360"/>
            <a:ext cx="8218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Етап 2 –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апровадження балансуючого механі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816200"/>
            <a:ext cx="850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довжується укладання двосторонніх договорів, як це було на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Етап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більшення частки відкриття ринк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повнюється механізмом балансування в реальному час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обто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бувається активація заявок і пропозицій Оператором сист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Крок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1: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ліфікований постачальник повинен сплачувати ціну небалансу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о складається 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тр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ціни балансуючого механі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720720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трати небалансу регульованого сектора включаються до кінцевої ОРЦ (прода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Крок 2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провадження заявок та пропозицій, які подаються виробни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пулу окре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Усі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стачальники повинні сплачувати ціну небалансу, щ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ається з витр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ціни балансуючого механі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D5F-89EA-42B7-B760-5964E5860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ередумови переходу до Етап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3739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повної структури і запровадження роботи біржі електроенергії на добу напер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ровадження певної організаційної установи, всіх відповідних правил та контракті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необхідних інформаційних сист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систем реєстрації учасників ринк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дачі заявок, визначення рівноважної ціни, розрахунк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AF0-382C-43CA-A080-E6F63BDA5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Етап 3 –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апровадження самостійного складання графі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мова від п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“на добу наперед”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централізованим складанням графі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асники ринку несуть повну відповідальність за власні плани виробниц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гнози спожи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е складання індивідуальних графіків вироб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повнюється двома перехідними за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провадження початкових договорів для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регульованих” споживач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ення біржі електричної енер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ливе впровадження додаткового процесу коригування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проміжному 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та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B0D-61A3-4452-B6BF-4525E988F1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6:41:42Z</dcterms:created>
  <dc:creator>RG2</dc:creator>
  <dc:description/>
  <dc:language>en-US</dc:language>
  <cp:lastModifiedBy>Punina</cp:lastModifiedBy>
  <dcterms:modified xsi:type="dcterms:W3CDTF">2008-09-22T14:57:57Z</dcterms:modified>
  <cp:revision>34</cp:revision>
  <dc:subject/>
  <dc:title>Слайд 1</dc:title>
</cp:coreProperties>
</file>